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6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2E07D-BC6E-4200-BF15-6F0346982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BAA04-C4F3-4B82-87F6-E7E6EB404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300320" y="800280"/>
            <a:ext cx="4260600" cy="31953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1143000" y="4346280"/>
            <a:ext cx="45720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36B38-44B9-4956-81B2-A639B2DF0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300320" y="800280"/>
            <a:ext cx="4260600" cy="31953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1143000" y="4346280"/>
            <a:ext cx="45720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8BAEC-60E3-4632-860E-EEEAEA0FE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4CC9C-D652-4083-BEEE-781216B92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300320" y="800280"/>
            <a:ext cx="4260600" cy="31953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143000" y="4346280"/>
            <a:ext cx="4572000" cy="38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Ferrara N. VEGF: an update on biological and therapeutic aspects. Curr Opin Biotechnol 2000;11:617–24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Ferrara N, Carver-Moore K, Chen H, et al. Heterozygous embryonic lethality induced by targeted inactivation of the VEGF gene. Nature 1996;380:439–42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Carmeliet P, Ferreira V, Breier G, et al. Abnormal blood vessel development and lethality in embryos lacking a single VEGF allele. Nature 1996;380:435–9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Poole AR. The growth plate: cellular physiology, cartilage assembly and mineralization. In: Hall BK, Newman SA, editors. Cartilage: molecular aspects. Boca Raton: CRC Press; 1991. p. 179–211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Gerber H-P, Ferrara N. Angiogenesis and bone growth. Trends Cardiovasc Med 2000;10:223–8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Li J, Zhang Y-P, Kirsner R. Angiogenesis in wound repair: angiogenic growth factors and the extracellular matrix. Microsc Res Tech 2003;60:107–14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Goede V, Schmidt T, Kimmina S, Kozian D, Augustin H. Analysis of blood vessel maturation processes during cyclic ovarian angiogenesis. Lab Invest 1998;78:1835–94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BAFB8-7FE2-4594-85EC-F6C52DD43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A1F3E-FC97-4EF9-A0FB-6C3741981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00320" y="800280"/>
            <a:ext cx="4260600" cy="31953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1143000" y="4346280"/>
            <a:ext cx="4572000" cy="38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on RT-P, Fan S-T, Wong J. Clinical implications of circulating angiogenic factors in cancer patients. J Clin Oncol 2001;19:1207–25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DDBE8-EB09-43DF-BBAB-99FA311A5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300320" y="800280"/>
            <a:ext cx="4260600" cy="31953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1143000" y="4346280"/>
            <a:ext cx="45720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FEFD8-734B-4F9A-A71B-06BD0C9BF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94141-F84B-4685-A416-50F36808B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300320" y="800280"/>
            <a:ext cx="4260600" cy="31953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D66BA-135F-4F1B-B226-FE87034AA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BE966-EB4A-44E5-93A7-0AAA21FF4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2EE82-93EB-4BCD-9914-9B1347EC0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38819-8305-4B3F-ACB7-A40060D59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3763C-C846-4974-912B-E4DCFF221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69513-3D32-4719-A1AC-421E287AE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90435-0BAB-40F9-B1F5-53E3ABFD4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A01C1-4A3D-4435-A271-121863592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2728-289C-41D7-BE58-C89269514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4F07-E108-42DC-B42D-551F1E78C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418D-E3EE-4080-BA33-5F630EE51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CC80-9348-4D25-9D1A-58FBE20B7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ABDD-077D-4129-88FB-5FB6C3970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6544-0E7E-4BA1-800D-59FE2A047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7A7E-910E-4BE1-BEB0-8DD5D895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757B-A0E5-43F7-8FBF-5A221217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F6AE-C633-45D2-8775-AC3E7994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279F-24EB-441A-936E-8473F4D54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C7E1-F47A-4674-8952-087CE7EE5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F635-2CC6-4C1F-BF0D-DDE82D72A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3A462-6288-4B32-AE0E-95FAB835B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B56EA-EE5B-423D-813D-1F5B755C8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F442F-34D5-40B1-8C7F-2EAF649CF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62AFD-A9C0-45FB-AE37-F02BB541A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88568-14E3-4BD4-8C4F-24D2F3B8F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19758-46E3-4697-8AFE-10695D19C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3B2C2-E299-4212-8804-ED0B5EF6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C10DD-BEE0-4A94-B539-1FBFCA6D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9F71C-0D00-4ABD-A33F-9D640BF0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810EF-3BE4-4E8D-9238-1A92C36B4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0AEDF-521B-470E-8198-5D83FF573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24C07-FB01-4B58-B675-A67D09A5B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92B79-E0E4-4410-BB47-2916EB8A9B0B}" type="slidenum">
              <a:rPr b="0" lang="sr-Latn-C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496B7-9FD0-4FC9-A8C4-410AF36EFB51}" type="slidenum">
              <a:rPr b="0" lang="sr-Latn-C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гисане академске студије фарм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920" y="234900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ULVERE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4735440" y="5300640"/>
            <a:ext cx="38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 .др Ана Барјактарев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1979640" y="177336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МАЦЕУТСКА ТЕХНОЛОГИЈА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6"/>
          <p:cNvSpPr/>
          <p:nvPr/>
        </p:nvSpPr>
        <p:spPr>
          <a:xfrm>
            <a:off x="-17640" y="148428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ЕНИ СТЕПЕН УСИТЊЕНОСТИ ПОСТИЖЕ СЕ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СЕЈАВАЊЕ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РОЗ ОДРЕЂЕНА СИТ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JUG. IV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6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ита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рој сита означава дужину отвора сита изражену у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JUG. V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8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и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1200, 8000, 5600, 4000, 2800, 2000, 1580, 1400, 1000, 710, 500, 355, 250, 125, 90, 63, 45, 38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рој сита означава дужину отвора сита изражену у 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µ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3480" y="674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 уситње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552240" y="1557360"/>
            <a:ext cx="82123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 финоће прашка може се одредити методом сејања при чему се корист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арајућа сит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h. Jug. V: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4.),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епен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ситњености се исказује прек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ројева сит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ја се корист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еко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ле наведених термин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БИ  ПРАШАК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мањ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95%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е пролази кроз сито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.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400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ише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%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е пролази кроз сито број 355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РЕНО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АН  ПРАШАК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мањ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95%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е пролаз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о бр.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55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највиш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0%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се пролази кроз сито бр.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8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АН  ПРАШАК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мање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5%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е пролази сито бр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180, 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и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%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е пролази кроз сито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ОМА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АН  ПРАШАК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мањ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95%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е пролази сито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125, 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иш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0%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е пролази кроз сито број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се користи само ЈЕДНА бројна ознака за сито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мање 97%  прашка мора 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лази кроз сито истог број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им ако није другачије прописано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080" y="1700280"/>
            <a:ext cx="91440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АК КАО ОБЛИК ДОЗИРАЊА ЛЕК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826920" y="34146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могена дисперзија једне или више лековитих супстанци одговарајућег степена уситњеност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АК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 дозирани облик лековите супстанц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ља формулацију у којој је лековита супстанц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j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а или виш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ешана са ексципијенсом да би се добио финални лековити облик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eњен за унутрашњу или спољашњу употреб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АК као лековити обл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636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НОСТИ ПРАШК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годни за индивидуалну терап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жи терапијски ефекат у односу на друге чврсте облике (таблете или капсул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орална примена таблета или капсул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адање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лобађање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. супстанце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арање у гастроинтестиналним течностима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орпција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нији су од раствора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 за израду антибиотских сируп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 за израду инјекциј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ко се узима са мало воде, млека или сока и погодни су за децу или старије особе које имају проблем са гутањем таблета или капсул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3588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ЦИ ПРАШКОВ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поуздан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ирање код примене неподељених прашк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здани за примену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екова јаког деловања у малим дозама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бог дозирања на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шик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годни за примену лекова који с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нактивирају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 желуц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ежано маскирање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пријатног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уса или мир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жина времена потребног за њихову припрему учинила је да се замењују таблетама и капсула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 у Ph.Jug.I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ve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veres mix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veres standardis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veres stabilis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ipulve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одељени прашкови за оралну употреб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pergent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рашкови за посипањ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nulat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рануле за оралну употреб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turation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рашкови или масти – смеша лек. супстанце најчешће јаког деловања и средства за допуњавање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6360" y="126792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ГРАФИЈЕ ПРАШКОВА У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Jug.V -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угословенској фармакопеји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Eur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285840" y="2143080"/>
            <a:ext cx="86439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 за </a:t>
            </a: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ЛНУ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у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PULVERES PERORALIA Ph.Jug. V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ulveres perorales Ph.Eur. 6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RANULE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GRANUL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 ЗА ПРИМЕНУ НА КОЖУ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PULVERES DERMICUM, Pulveres ad usum dermicum Ph.Eur. 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 И ГРАНУЛЕ ЗА ИЗРАДУ ОРАЛНИХ РАСТВОРА И СУСПЕНЗИЈА -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графија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IQUIDA PERORAL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 ЗА НОС -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графија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S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 ЗА УШИ –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графија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RICUL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 ЗА ИНЈЕКЦИЈЕ И ИНТРАВЕНСКЕ ИНФУЗИЈЕ – монографија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ENTER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 ЗА ИНХАЛАЦИЈУ – монографија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AL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 ЗА РЕКТАЛНЕ РАСТВОРЕ И СУСПЕНЗИЈЕ –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графија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TAL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 ЗА ИЗРАДУ КАПИ И ЛОСИОНА ЗА ОЧИ – монографија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HTALMICA, Ph.Eur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280" y="1125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h.Jug V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 ЗА ОРАЛНУ УПОТРЕБУ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VERES PERORALIA</a:t>
            </a:r>
            <a:br>
              <a:rPr sz="1800"/>
            </a:br>
            <a:r>
              <a:rPr b="1" i="1" lang="sr-Latn-C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h.Eur. V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</a:t>
            </a:r>
            <a:r>
              <a:rPr b="1" i="1" lang="sr-Latn-C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:</a:t>
            </a:r>
            <a:r>
              <a:rPr b="1" i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DERS, ORAL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veres perorales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324000" y="1773360"/>
            <a:ext cx="8569080" cy="51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епарати који се састој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чврстих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реситих и сувих честиц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итог степена уситњеност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адрж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једну или више лековитих супстанц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или без помоћних материја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ј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генси мириса и укус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зрађују се као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 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 н о д о з н и  препарати 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ковани у  папирн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суле, кесице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 ш е до з н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репарати (с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ом кашичицом или малом посудом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њују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 најчешће тако што се размуте у води или некој другој течности или се прогутају директно са водом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рвесцентни прашков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Ph.Eur. VI/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одозни или вишедозни прашкови који садрже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иселе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анце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</a:t>
            </a: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бонате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генкарбонате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 употребе се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стварају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испергују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води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чему се развија угљен-диоксид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246600" y="5805360"/>
            <a:ext cx="866988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израд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ковању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ању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истрибуцији МОРА да се обезбед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икробиолошка чистоћа препарата</a:t>
            </a:r>
            <a:r>
              <a:rPr b="1" lang="sr-Latn-CS" sz="2000" spc="-1" strike="noStrike">
                <a:solidFill>
                  <a:srgbClr val="00ccf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1412640"/>
            <a:ext cx="9144000" cy="50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 ПРАШКОВА ЗА ОРАЛНУ УПОТРЕБ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250920" y="1916280"/>
            <a:ext cx="871380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 </a:t>
            </a:r>
            <a:r>
              <a:rPr b="1" lang="en-US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епен уситњености</a:t>
            </a:r>
            <a:r>
              <a:rPr b="0" lang="en-US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спитује се методом сејања или неком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ом погодном методом (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Jug.V: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9.12)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 </a:t>
            </a:r>
            <a:r>
              <a:rPr b="1" lang="en-US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једначеност садржаја лек.супстанце</a:t>
            </a:r>
            <a:r>
              <a:rPr b="0" lang="en-US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д прашкова са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ајем лек. супстанце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≤ 2 mg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ози или ако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чини мање од 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%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дносу на укупну масу (морају да одговарају захтевима теста Б за 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једначеност садржаја лековите супстанце у једнодозним препаратима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дређује се појединачно садржај у 10 доза и просечан садржај активне супстанце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 Б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репарат задовољава захтеве испитивања ако све дозе имају лековиту супстанцу у опсегу 75% – 125% од просечног садржаја и највише једну дозу са мање од 85 или више од 115% од просечног садржај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СКИ ПРЕПАРАТИ типа ДИСПЕРЗ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ЕРЗИ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и код којих је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једна или више супстанц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дисперзна фаза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утрашња фаз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орена фаз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деље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ше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ергова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 другој супстанц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ерзно средств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љашња фаз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ворена фаз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57200" y="112500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√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једначеност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варирање) мас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одозних паковања прашкова – израчунава се просечна маса 20 појединачних доза. Дозвољени проценат одступања зависи од просечне масе. Са повећањем масе опада проценат одступањ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е појединачне масе смеју одступати више од дозвољеног, а ниједна више од двоструке вредности дозвољеног процента одступањ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изводи се ако се изводи испитивање на уједначеност садржај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√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једначеност масе подељених доза из вишедозних контејнера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Ph.Eur. VI</a:t>
            </a:r>
            <a:r>
              <a:rPr b="0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чунава се просечна маса 20 појединачних доза. Највише две масе смеју одступати од просечне за више од 10%, а ниједна више од 20%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74680" y="1052640"/>
            <a:ext cx="91440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НУЛ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NUL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3"/>
          <p:cNvSpPr/>
          <p:nvPr/>
        </p:nvSpPr>
        <p:spPr>
          <a:xfrm>
            <a:off x="297000" y="1700280"/>
            <a:ext cx="853272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тоје се од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врстих</a:t>
            </a:r>
            <a:r>
              <a:rPr b="0" lang="sr-Latn-CS" sz="1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вих агрегата честица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ењених за </a:t>
            </a:r>
            <a:r>
              <a:rPr b="1" lang="sr-Latn-CS" sz="1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лну употребу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е </a:t>
            </a:r>
            <a:r>
              <a:rPr b="0" lang="sr-Latn-CS" sz="1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j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дну или више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их супстанци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или без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моћних материја, боја или коригенса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ђују се као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1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једнодозни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и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ковање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пирне капсуле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сице или бочице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ишедозни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и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ковање са приложеном кашичицом или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ом  посудом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изради, паковању, чувању и дистрибуцији обезбедити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биолошку 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тоћу препарат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ање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препарат садржи испарљиве компоненте или супстанце које треба заштитити – чување у добро затвореним контејнерима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а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тају се директно, или се жваћу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растварају или диспергују у води или некој другој течности пре примене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 гранула по захтевима 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Eur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4000" y="2305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једначеност дозних јединиц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једнодозних гранул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једначеност садржаја лековите супстанце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једнодозних гранула са садржајем лек.супстанц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≤2 m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ако она чини мање о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%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дносу на укупну мас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препарат има више од једне лек. супстанц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 се односи на ону која испуњава наведене услов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једначеност масе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једнодозних препарата гранул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зев обложени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изводи се ако се изводи испитивање на уједначеност садржај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једначеност масе подељених доза из вишедозних контејнер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НУЛЕ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NUL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442800" y="2492280"/>
            <a:ext cx="8410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Е ГРАНУ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ФЕРВЕСЦЕНТНЕ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УМЕЋЕ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ОЖЕНЕ ГРАНУ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СТРО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ИСТЕНТ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НУЛЕ СА МОДИФИКОВАНИМ ОСЛОБАЂАЊЕМ ЛЕК:СУПСТАНЦ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1341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НУЛ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NUL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253080" y="2565360"/>
            <a:ext cx="8730000" cy="32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РВЕСЦЕНТНЕ (шумеће) грану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ложене гранул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е садрж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исел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анц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ли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мунс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нс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корбинска или соли и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азн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анце као калијум-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трију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калцију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бонат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хидрогенкрбона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 употребе се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варај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испергуј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вод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че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развија угљен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окси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 ЕФЕРВЕСЦЕНТНИХ (ШУМЕЋИХ) ГРАНУ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адљивост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на доза ефервесцентних гранула пренесе се у тиквицу која садрж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 m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чишћене воде загрејане 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5 ºC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станак стварања мехурића је доказ да су се грануле раствориле или дисперговал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 се понавља на још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јединачних доз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вим испитивањима грануле треба да се распадну з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5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инут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13"/>
          <p:cNvSpPr/>
          <p:nvPr/>
        </p:nvSpPr>
        <p:spPr>
          <a:xfrm>
            <a:off x="2273400" y="1125360"/>
            <a:ext cx="43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НУЛ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NUL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4"/>
          <p:cNvSpPr/>
          <p:nvPr/>
        </p:nvSpPr>
        <p:spPr>
          <a:xfrm>
            <a:off x="684360" y="2276640"/>
            <a:ext cx="7772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ОЖЕНЕ ГРАНУ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чно вишедозни препарати превучени – обложени са једним или више слојева смеше помоћних материј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ћне материје за облагање се наносе на грануле у виду раствора или суспензија, уз истовремено сушење, при чему растварач испарав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 или суспензија за облагање садржи полимер у одговарајућем растварачу, пластификаторе и бо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 ОБЛОЖЕНИХ ГРАНУЛ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8280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зина растварања лековите супстанце из гранул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циљем да се покаже да се лековита супстанца ослобађа на одговарајући начи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sr-Latn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issolution test for solid dosage form desig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vitr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ма се прати ослобађање/количина растворене активне супстанце у познатој запремини течног медијума у одређеним временским интервалима. Растворена количина лековите супстанце се изражава као проценат од декларисаног садржај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4"/>
          <p:cNvSpPr/>
          <p:nvPr/>
        </p:nvSpPr>
        <p:spPr>
          <a:xfrm>
            <a:off x="2341080" y="1062000"/>
            <a:ext cx="435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НУЛ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NUL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1166760" y="200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684360" y="2276640"/>
            <a:ext cx="7775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СТР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ИСТЕНТН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НУ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ијају се превлачењем гранула ацидорезистентном превлаком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теросолвентним филмо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мерне облоге – кополимери метакрилне киселине и естри фталне кисел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зина растварања лековите супстанц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циљем да се покаже да се лековита супстанца ослобађа на одговарајући начин,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issolution test for solid dosage form design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Jug. V,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9.3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НУЛЕ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1" i="1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NULAT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50920" y="2204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НУЛЕ СА МОДИФИКОВАНИМ ОСЛОБАЂАЊЕМ ЛЕКОВИТЕ СУПСТАН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ожене или необложене грануле добијене коришћењем специјалних помоћних материја и/или посебним технолошким поступцима, тако да се модифику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рзина</a:t>
            </a:r>
            <a:r>
              <a:rPr b="1" i="1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реме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ест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лобађања лековите супстан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ЕРЗНИ СИСТ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640" y="186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ерзна фаза -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erz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ерзно средство -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er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е фазе могу би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врс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сови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5416560" y="3952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7"/>
          <p:cNvSpPr/>
          <p:nvPr/>
        </p:nvSpPr>
        <p:spPr>
          <a:xfrm>
            <a:off x="6934320" y="1143000"/>
            <a:ext cx="2209680" cy="1905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7575480" y="136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9"/>
          <p:cNvSpPr/>
          <p:nvPr/>
        </p:nvSpPr>
        <p:spPr>
          <a:xfrm>
            <a:off x="7543800" y="1523880"/>
            <a:ext cx="304920" cy="2286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8367840" y="1216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1"/>
          <p:cNvSpPr/>
          <p:nvPr/>
        </p:nvSpPr>
        <p:spPr>
          <a:xfrm>
            <a:off x="8153280" y="1523880"/>
            <a:ext cx="304920" cy="30492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7864560" y="1720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13"/>
          <p:cNvSpPr/>
          <p:nvPr/>
        </p:nvSpPr>
        <p:spPr>
          <a:xfrm>
            <a:off x="7956720" y="1989000"/>
            <a:ext cx="457200" cy="38124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7359480" y="19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15"/>
          <p:cNvSpPr/>
          <p:nvPr/>
        </p:nvSpPr>
        <p:spPr>
          <a:xfrm>
            <a:off x="7543800" y="2209680"/>
            <a:ext cx="304920" cy="30492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6"/>
          <p:cNvSpPr/>
          <p:nvPr/>
        </p:nvSpPr>
        <p:spPr>
          <a:xfrm flipV="1">
            <a:off x="5796000" y="1628640"/>
            <a:ext cx="182880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7"/>
          <p:cNvSpPr/>
          <p:nvPr/>
        </p:nvSpPr>
        <p:spPr>
          <a:xfrm flipV="1">
            <a:off x="6084720" y="1699920"/>
            <a:ext cx="2232360" cy="865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8"/>
          <p:cNvSpPr/>
          <p:nvPr/>
        </p:nvSpPr>
        <p:spPr>
          <a:xfrm flipV="1">
            <a:off x="6300720" y="2204640"/>
            <a:ext cx="2016360" cy="36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9"/>
          <p:cNvSpPr/>
          <p:nvPr/>
        </p:nvSpPr>
        <p:spPr>
          <a:xfrm flipV="1">
            <a:off x="5940360" y="2421000"/>
            <a:ext cx="1800360" cy="21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0"/>
          <p:cNvSpPr/>
          <p:nvPr/>
        </p:nvSpPr>
        <p:spPr>
          <a:xfrm flipV="1">
            <a:off x="5796000" y="2960280"/>
            <a:ext cx="1655640" cy="252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НУЛА СА МОДИФИКОВАНИМ ОСЛОБАЂАЊЕМ ЛЕКОВИТЕ СУПСТАНЦ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55280" y="3068280"/>
            <a:ext cx="8064360" cy="34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зина ослобађања лековите супстанц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гранул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циљем да се покаже да се лековита супстанца ослобађа на одговарајући начи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i="1" lang="sr-Latn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issolution test for solid dosage form design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Jug. V,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9.3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 И ГРАНУЛЕ за израду раствора и суспензија за оралну употреб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240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ниције су дате у монографијам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 за оралну употребу и Грану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 да садрже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моћне матери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побољшање дисперговања или растварања и спречавање очвршћавања талога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једначеност садржаја лековите супстан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рање мас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си се на једнодозне облик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ањ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обро затвореним посудам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чавањ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игнатури мора бити наведен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 израд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нституисањ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а или суспензиј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 чувања и рок трајања реконституисаног раствора или суспензи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 И ГРАНУЛЕ за израду раствора и суспензија за оралну употреб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3960" y="1052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h.Jug. V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 ЗА СПОЉАШЊУ УПОТРЕБУ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</a:t>
            </a:r>
            <a:r>
              <a:rPr b="1" i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VERES AD USUM DERMICUM</a:t>
            </a:r>
            <a:br>
              <a:rPr sz="1800"/>
            </a:b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h.Eur. 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</a:t>
            </a: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DERS FOR CUTANEOUS APPLICATION- Pulveres ad usum dermicum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тоје се од чврстих, растреситих, сувих честица, различитог степена уситњеност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меју имати грудвиц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е једну или више лековитих супстанци, са или без помоћних материј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 намењени за употребу на веће отворене ране или озлеђену кожу морају бити СТЕРИЛН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ђују се као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j 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 н о д о з н и препара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и ш е д о з н 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кују се у посуде са перфорираним улошком или са механичким средством за распршивање или под притиском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игнирањ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су за спољашњу употребу и да с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илн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се то захте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изради, паковању, чувању и дистрибуцији мора да се обезбеди микробиолошка чистоћа препар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 ПРАШКОВА ЗА СПОЉАШЊУ УПОТРЕБ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 уситњеност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ом сејањ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једначеност дозних јединиц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једнодозних прашков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Ph.Eur. 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једначеност садржаја лековите супстанц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прашкова са садржајем лек. супстанце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2 m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ози или мање 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%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дносу на укупну мас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рањ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једначеност мас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одозна паковања прашков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илнос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 када јe декларисан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1.4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биолошки квалитет фармацеутских препарата у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Jug.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0" y="22046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току израде, паковања, чувања и дистрибуције фармацеутских препарата треба предузети одговарајуће мере да би се осигурао њихов микробиолошки квалите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ски препарати треба да су у складу с критеријумима који су наведен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ИЈ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и који МОРАЈУ да буду стерилни према релевантној монографији лековитог препарата и други препарати који су означени као стерил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ст на стерилност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/2.6.1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1.4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биолошки квалитет фармацеутских препрата у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Jug.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-181080" y="232704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K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ТЕГОРИЈА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и за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ПОЉАШЊ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у као и препарати за примену дуж респираторног тракта, сем оних за које се захтева да буду стерилн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упан број аеробних живих микроорганизама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.6.12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више од укупно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sr-Latn-C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еробних бактерија и гљивица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виш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sr-Latn-C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теробактерија и неких других Грам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-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ктерија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.6.13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суство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eudomonas aeruginosa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.6.13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суство</a:t>
            </a:r>
            <a:r>
              <a:rPr b="1" i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phylococcus aureus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.6.13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1.4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биолошки квалитет фармацеутских препрата у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Jug.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09680" y="2327040"/>
            <a:ext cx="8748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K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ТЕГОРИЈА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3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и за ОРАЛНУ и РЕКТАЛНУ примен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више од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еробних бактериј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 више од 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љивиц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дсуств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herichia co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618920" y="83628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ДА ПРАШК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291520" cy="49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 компоненте 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и степен уситњеност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меравање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ослед мерења и преношења у тарионик од суспстанце заступљене у најмањој количини – ка већој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зетак су 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уминозне, обојене и супстанце јаког дејства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шање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жно са десна на лево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;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ице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турирани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ашкови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турације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шањем јако или врло јако делујуће супстанце са индиферентном супстанцом, најчешће лакотозом у конц.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:10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:100;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љ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ијање хомогене смеше са истим садржајем лековите супстанце у сваком делу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7216920" y="1073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и за уши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riculari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врсти или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врст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и намењени за укапавање, распршивање, удувавање у ушни канал или за испирање ушиј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е препарата за уш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и и спреј препарати за уш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врсти препарати за уш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шкови за уш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и за испирање ушиј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мпони за уш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</a:t>
            </a:r>
            <a:r>
              <a:rPr b="0" lang="sr-Latn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</a:t>
            </a:r>
            <a:r>
              <a:rPr b="0" lang="sr-Latn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(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шков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ет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апић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T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спензи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мови, супозитори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ол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/T (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лзи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сион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ол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T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не за спољашњу или вагиналну примен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ски препарати типа дисперзи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684360" y="2133360"/>
            <a:ext cx="822960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ају да одговарају захтевима датим у монографиј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 за спољашњу употребу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кују се у одговарајућу амбалажу са апликатор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и за уши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riculari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и за нос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sali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врсти или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врст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и намењени за примену у носне шупљине, у циљу постизања локалног или системског деловањ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е препарата за нос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и и течни спреј за н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шкови за н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врсти препарати за н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и за испирање но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апићи за нос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 за н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ењени су за ушмркавање у носне шупљине помоћу одговарајућег апликатор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арају захтевима датим у монографији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 за спољашњу употребу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 честица је таква да се оне локализују у носној шупљини, што се проверава одговарајућим методама за одређивање величине честица.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ентерални препар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илни препарат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 се примењују путем инјекције, инфузије или имплантацијом у људско или животињско те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е парентералних препарат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јек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авенске инфуз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ати за инјекције и ив. инфуз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шкови за инј. и ив. инфуз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план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 за инјекције и интравенске инфузиј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 за инјекције и интравенске инфузије с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врсте</a:t>
            </a:r>
            <a:r>
              <a:rPr b="1" i="1" lang="sr-Latn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,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ерилне</a:t>
            </a:r>
            <a:r>
              <a:rPr b="1" i="1" lang="sr-Latn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упстанц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аковане у одговарајућу амбалаж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се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мешај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одређеном запремином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писаног стерилног вехикулума / растварач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зо формирају бистр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актично без честица или хомоген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спензи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растварања или суспендовања одговарају захтевима за инјекције или ив. инфузије.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68360" y="2420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једначеност садржаја лек.супстан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рање ма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огени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растварањ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 за инјекције и интравенске инфузиј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и за инхалацију -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ala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и или чврсти препарати у облику паре, аеросола или прашкова, намењени за примену у доњем делу респираторног тракта са циљем постизања локалног или системског деловањ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е препарата за инхалаци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и препарати за инхалац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и препарати за распршивањ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булизаци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и за инхалацију у инхалаторима под притиском, са дозато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шкови за инхалац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 за инхалаци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50920" y="227628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тупљени су као прашкови за једнократну примену, прашкови за вишекратну примену или прашкови који се добијају из компактних чврстих обл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њују се путем инхалатор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826560" y="2420640"/>
            <a:ext cx="721044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једначеност садржаја ослобођене до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еродинамичко одређивање ситних честиц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ослобођених доза по вишедозном контејне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 за инхалаци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тални препар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ењени за ректалну апликацију са циљем да се постигне системско или локално деловање или у дијагностичке сврх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е ректалних препарат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озитор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суле за ректалну приме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и и суспензије за ректалну приме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шкови и таблете из којих се израђују раствори и суспензије за ректалну примену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врсти препарати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лов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талне пе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тални тампо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а према конзистенциј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руп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и за оч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узи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јекци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ВРС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мови, гелов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т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ВРСТИ</a:t>
            </a:r>
            <a:r>
              <a:rPr b="0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шков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ет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суле,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озитори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апић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и облик као сист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1197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 и таблете из којих се израђују раствори и суспензије за ректалну примену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3964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арају се или суспендују у води непосредно пре апликаци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 да садрже помоћне материје које олакшавају  растварање или дисперговање или спречавају слепљивање честица у суспензиј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спитивањ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адљивос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ете за израду ових раствора или суспензија морају да се распадну у води 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5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5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ут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значавањ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игнатури мора да стоји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чин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прем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талног раствора или суспензи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 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слови чувања и рок употреб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нституисаног раствора или суспензи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3"/>
          <p:cNvSpPr/>
          <p:nvPr/>
        </p:nvSpPr>
        <p:spPr>
          <a:xfrm>
            <a:off x="1282680" y="1255680"/>
            <a:ext cx="66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</a:t>
            </a:r>
            <a:r>
              <a:rPr b="1" i="1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Pulve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0" y="1963800"/>
            <a:ext cx="896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тепен уситњености супстанце:</a:t>
            </a:r>
            <a:r>
              <a:rPr b="0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овим појмом се  подразумева  уситњеност матери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анц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степена праш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</a:t>
            </a:r>
            <a:r>
              <a:rPr b="0" lang="sr-R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блик дозирања лека</a:t>
            </a:r>
            <a:r>
              <a:rPr b="0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ековити препара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врс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ски препара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могене дисперзи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 или више супстанц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ог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препарата дрог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е се израђују са или без додатка помоћних материја).</a:t>
            </a:r>
            <a:r>
              <a:rPr b="0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единачни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ци дозирања за разне намене </a:t>
            </a:r>
            <a:r>
              <a:rPr b="0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lang="sr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кстерно или интерно</a:t>
            </a:r>
            <a:r>
              <a:rPr b="0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lang="sr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ли као међупроизвод</a:t>
            </a:r>
            <a:r>
              <a:rPr b="0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 производњи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г другог коначног обли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ет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суле, супозитори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11"/>
          <p:cNvSpPr/>
          <p:nvPr/>
        </p:nvSpPr>
        <p:spPr>
          <a:xfrm>
            <a:off x="179280" y="1230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ај степена уситњености супстан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1224000" y="1962000"/>
            <a:ext cx="2808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зина растварања лековите супстан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сорпција л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3"/>
          <p:cNvSpPr/>
          <p:nvPr/>
        </p:nvSpPr>
        <p:spPr>
          <a:xfrm>
            <a:off x="5202360" y="2125800"/>
            <a:ext cx="33112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бедност приме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ритација места приме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4"/>
          <p:cNvSpPr/>
          <p:nvPr/>
        </p:nvSpPr>
        <p:spPr>
          <a:xfrm>
            <a:off x="5580000" y="3890880"/>
            <a:ext cx="2556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зистенција препар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нос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5"/>
          <p:cNvSpPr/>
          <p:nvPr/>
        </p:nvSpPr>
        <p:spPr>
          <a:xfrm>
            <a:off x="3851280" y="5589720"/>
            <a:ext cx="244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једначеност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аја лек. супстанц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чност дозирањ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6"/>
          <p:cNvSpPr/>
          <p:nvPr/>
        </p:nvSpPr>
        <p:spPr>
          <a:xfrm>
            <a:off x="1246320" y="4762440"/>
            <a:ext cx="187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рапијска ефикасност л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7"/>
          <p:cNvSpPr/>
          <p:nvPr/>
        </p:nvSpPr>
        <p:spPr>
          <a:xfrm>
            <a:off x="755640" y="3251160"/>
            <a:ext cx="187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иолошка расположивост л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"/>
          <p:cNvSpPr/>
          <p:nvPr/>
        </p:nvSpPr>
        <p:spPr>
          <a:xfrm>
            <a:off x="222120" y="1004760"/>
            <a:ext cx="86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ај степена уситњености супстан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2"/>
          <p:cNvSpPr/>
          <p:nvPr/>
        </p:nvSpPr>
        <p:spPr>
          <a:xfrm>
            <a:off x="471600" y="1773360"/>
            <a:ext cx="81439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 уситњености супстанце (величина честиц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иче н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√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рзину ослобађања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тварања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ековите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упстанце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итњавањем се повећава укупна слободна површина честица лековите супстанце која је у контакту са растварачем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шке течности)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већање брзине растварања</a:t>
            </a:r>
            <a:r>
              <a:rPr b="0" i="1" lang="sr-Latn-C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√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сорпцију лека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зина растварања је фактор који ограничава апсорпциј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"/>
          <p:cNvSpPr/>
          <p:nvPr/>
        </p:nvSpPr>
        <p:spPr>
          <a:xfrm>
            <a:off x="324000" y="1052640"/>
            <a:ext cx="8280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једначеност садржаја лековите супстанц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итњавањем се повећава број честица прашка по јединици масе фармацеутског облика, што повећава тачност дозирањ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езбедност примене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ена величина честица код парентералних препар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ритација места примене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ена величина честица код офталмолошких препар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абилност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 честица утиче на физичку стабилност грубих дисперзија (суспензија). Честице мање величине се спорије таложе и постиже се боља хомогенос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0</cp:lastModifiedBy>
  <dcterms:modified xsi:type="dcterms:W3CDTF">2023-08-31T07:41:44Z</dcterms:modified>
  <cp:revision>13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_Confidentiality">
    <vt:lpwstr>Restricted</vt:lpwstr>
  </property>
  <property fmtid="{D5CDD505-2E9C-101B-9397-08002B2CF9AE}" pid="3" name="MSIP_Label_9d258917-277f-42cd-a3cd-14c4e9ee58bc_ActionId">
    <vt:lpwstr>023c06de-155e-4993-a619-d0c39c952c2c</vt:lpwstr>
  </property>
  <property fmtid="{D5CDD505-2E9C-101B-9397-08002B2CF9AE}" pid="4" name="MSIP_Label_9d258917-277f-42cd-a3cd-14c4e9ee58bc_ContentBits">
    <vt:lpwstr>0</vt:lpwstr>
  </property>
  <property fmtid="{D5CDD505-2E9C-101B-9397-08002B2CF9AE}" pid="5" name="MSIP_Label_9d258917-277f-42cd-a3cd-14c4e9ee58bc_Enabled">
    <vt:lpwstr>true</vt:lpwstr>
  </property>
  <property fmtid="{D5CDD505-2E9C-101B-9397-08002B2CF9AE}" pid="6" name="MSIP_Label_9d258917-277f-42cd-a3cd-14c4e9ee58bc_Method">
    <vt:lpwstr>Standard</vt:lpwstr>
  </property>
  <property fmtid="{D5CDD505-2E9C-101B-9397-08002B2CF9AE}" pid="7" name="MSIP_Label_9d258917-277f-42cd-a3cd-14c4e9ee58bc_Name">
    <vt:lpwstr>restricted</vt:lpwstr>
  </property>
  <property fmtid="{D5CDD505-2E9C-101B-9397-08002B2CF9AE}" pid="8" name="MSIP_Label_9d258917-277f-42cd-a3cd-14c4e9ee58bc_SetDate">
    <vt:lpwstr>2022-09-17T17:20:33Z</vt:lpwstr>
  </property>
  <property fmtid="{D5CDD505-2E9C-101B-9397-08002B2CF9AE}" pid="9" name="MSIP_Label_9d258917-277f-42cd-a3cd-14c4e9ee58bc_SiteId">
    <vt:lpwstr>38ae3bcd-9579-4fd4-adda-b42e1495d55a</vt:lpwstr>
  </property>
</Properties>
</file>